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5980-FAA7-486D-AD73-16ED6A3D6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035-A93F-4223-B1A9-F993CEF65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D33-B199-4744-A6D1-92E5699B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E89-48A8-4BC9-A0EF-88A01D4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B46-2A10-4CA9-B32F-271A2800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7BE-EF2F-41DB-A62A-3099740C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A241-3969-4413-B2C0-4992D4E1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D6D-2D64-4FF4-AE79-4C9D915D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B42-3CAA-4F76-A407-BABF2984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5278-92A6-4B99-955C-69BE532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9DB8-6010-4986-83C7-D62C883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696-9A05-43B9-A54F-78CE58D9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C6C7-F2DB-494C-B7CC-EE66C31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051-6F84-49CF-8E71-E3B19CC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65D-C908-47EF-A499-1808DB7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57A9-55E2-467A-A8FA-9C6743CF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96A1-35D6-4BB7-B08E-7F8E269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A30D-3507-4412-B3EB-0BBE1236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ED9E-3BC9-45D6-9C1C-0B4B4B44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405-3873-4CDD-A499-76284FD0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9D5-0F43-42BA-9F2A-7415451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9C5-0D0F-404F-9C46-C4A3BE9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4D0-3ACC-45D7-AA87-E04E811D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4F2-F01B-47F2-9A1B-57A3CA6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15C-AD1A-47E0-A7BE-0B01BDF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546-27E2-4ACF-A367-60F768F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300-4CDE-4C7F-A700-61B22C008C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32BC-B83F-4A8D-B85F-529C8C7222C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5A6-0E32-4E0C-A124-CAA26864E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3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0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828800"/>
            <a:ext cx="7859520" cy="398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аз Минсельхоза России от 06.03.2020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рядка посева и посадки подкарантинной продукции, ввезенной в Российскую Федерацию из иностранных государств или групп иностранных государств, где выявлено распространение карантинных объектов, характерных для такой подкарантинной продук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457-31FC-4820-B7DA-BEF8B5E665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9784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14280" y="45072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4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6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7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04.04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41240" y="2362320"/>
            <a:ext cx="8066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очта (krasn.zemkontrol@mail.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9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7880" y="1676520"/>
          <a:ext cx="5630760" cy="457200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1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1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ям Правительства РФ от 14.03.2022 N 362 «О введении временного запрета на вывоз зерновых культур за пределы территории Российской Федерации», а также Постановлением Правительства от 31.03.2022 № 529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С 15 марта по 30 июня 2022 г. установлен временный запрет на вывоз из Российской Федерации пшеницы и меслина, ржи, ячменя и кукуруз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Абхазия, Республику Южная Осетия, Донецкую Народную Республику и Луганскую Народную Республи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азовых лицензий на экспор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анных Министерством промышленности и торговл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Белоруссию в рамках Союзн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 апреля по 31 августа установлен запрет на вывоз рапса и подсолнечн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государства - члены Евразийского экономического сою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4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4-05T02:38:33Z</dcterms:modified>
  <cp:revision>9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